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A48-4F42-4262-B732-BDD088D6A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1E92-0CAF-4847-81DD-99BBCC541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125-C4C9-4194-B0FF-97CDF097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EB9-83F0-4E70-9FE8-612AC8E1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908-721A-40BA-BF95-AE1E8FDB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0E7-B3DC-425C-B512-B108AD0C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3C8-947C-4FBA-AB1B-440E77D1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75E-5DF5-4BE8-A8EC-017AFB6C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B6F-4251-4E9B-85FC-E39D50E2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B2B-22DF-47B8-88E5-24FC8081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178-BF8E-4133-8E21-568F01DB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35E-8496-4166-856D-838F044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66A-4F71-4B5E-8962-636209D2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1AF-BCDC-4D72-B8C9-4433B36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0036-1DB9-4421-85E5-FBDE8B386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piece of blank paper to create your own “Piece of the Pie” foldabl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Harlem Renaissance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s. 896-897 &amp; write facts from each paragra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Harlem Renaissance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s. 896-897 &amp; write facts from each paragra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Langston Hughe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s. 898-900 &amp; write facts from each par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Before You Read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define speaker, social perspective, archetypal perspective, biographical perspective –pg9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21"/>
          <p:cNvSpPr/>
          <p:nvPr/>
        </p:nvSpPr>
        <p:spPr>
          <a:xfrm>
            <a:off x="3048120" y="236232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438280" y="3127680"/>
            <a:ext cx="4038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Pearson Unit 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59:17Z</dcterms:created>
  <dc:creator>nvasquez</dc:creator>
  <dc:description/>
  <dc:language>en-US</dc:language>
  <cp:lastModifiedBy>nvasquez</cp:lastModifiedBy>
  <dcterms:modified xsi:type="dcterms:W3CDTF">2010-11-07T17:14:19Z</dcterms:modified>
  <cp:revision>3</cp:revision>
  <dc:subject/>
  <dc:title>Pearson Unit 4</dc:title>
</cp:coreProperties>
</file>